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B307-F88B-41C6-AC8B-D9A3B70BC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6ED0-909B-4B2E-B8A8-4F883980A11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C845-17AA-415D-9A08-7586DAE1A03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DF78-8EE9-4F7F-957F-BEE165C65BC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7BD8-CB89-4A65-B47D-532D72A22BD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fairy tales and its elements; compare and contrast elements; magical kingdom mural, after four weeks – asked to write a fairy tale, prewriting, conferencing, pub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: to see students “consciously incorporated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y tale ele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their own stories (without suggesting they should be)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y tale “language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other fairy tale detai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1050-AE74-4EBC-ACDE-B5435B056F7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d “internalized” language, elements, characters, and plots from stories due to the classroom culture (IMMERSED in a literature study) that was set up, reading across so many, discussing elements, comparing/contrasting, word splash, mural, etc., etc., (all those response activities – if well planned – can foster conscious (EXPLICIT METACOGNITIVE CONNECTIONS) or unconscious awareness (THROUGH SHEER EXPOSURE) of genre structures). And using as models to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d “internalized” language, elements, characters, and plots from stories due to the classroom culture (IMMERSED in a literature study) that was set up, reading across so many, discussing elements, comparing/contrasting, word splash, mural, etc., etc., (all those response activities – if well planned – can foster conscious (EXPLICIT METACOGNITIVE CONNECTIONS) or unconscious awareness (THROUGH SHEER EXPOSURE) of genre structures). And using as models to write; high-ability students tend to be more metacognitively aware (Consciously aware of strategy use and thinking about think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FF22-4770-489F-9110-44BB16664E7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F1EF-45FD-488A-911D-C4FF69349DD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D072-2895-4AD7-8332-4BE38F2CAEA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D74-FC87-439B-BDA0-9AB9A0CF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227-4CC9-46EB-AAD6-9C185075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85D-9E3F-462C-91E4-C2EDDAAE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E4C-160C-4B4B-A6A0-B7DFDCE1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A4B6-E465-42C7-B81F-A5643423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A9DA-EDA1-4195-BF68-24DDD951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D24A-7CC8-45B5-8DA5-9B03590F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C529-784B-4C8F-911F-00391802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78D4-63A2-40FF-8686-7AC9A5C3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BEB3-D590-48AB-B0C9-63332D42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1EEF-89B1-4715-B286-94CE0C97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C08-B0B9-4763-9D2F-8110C102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D6B4-D767-4BBC-BDB9-795B9415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8751-5269-418F-A97F-DDE52FE7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1EFF-5423-4505-AE81-B581D35F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593E-A0F7-4571-9F82-63066394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BC7E-592A-42C5-ADEA-4F0D9195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D63-2973-4CAF-960E-27B18F13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EDB-7DF5-4F58-A321-BED658EB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19A-28A1-4A88-BB25-1D728247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E3B-9ABA-41F6-97EE-660B72EE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193-D789-4066-BA64-4587F762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786-7491-4201-8240-B1DE82A4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CF9-4588-48EE-8FFD-BFF254D5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D554-CECC-4018-8EE0-ADBCA6205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F8EA-1440-4BD9-A03D-CC4152942823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ext characteristics affect comprehension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e </a:t>
            </a:r>
            <a:r>
              <a:rPr b="1" lang="en-US" sz="4400" spc="-1" strike="noStrike" u="sng">
                <a:solidFill>
                  <a:srgbClr val="320000"/>
                </a:solidFill>
                <a:uFillTx/>
                <a:latin typeface="Arial"/>
              </a:rPr>
              <a:t>explicit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s you teach students about </a:t>
            </a:r>
            <a:r>
              <a:rPr b="1" lang="en-US" sz="4400" spc="-1" strike="noStrike" u="sng">
                <a:solidFill>
                  <a:srgbClr val="320000"/>
                </a:solidFill>
                <a:uFillTx/>
                <a:latin typeface="Arial"/>
              </a:rPr>
              <a:t>genre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 and </a:t>
            </a:r>
            <a:r>
              <a:rPr b="1" lang="en-US" sz="4400" spc="-1" strike="noStrike" u="sng">
                <a:solidFill>
                  <a:srgbClr val="320000"/>
                </a:solidFill>
                <a:uFillTx/>
                <a:latin typeface="Arial"/>
              </a:rPr>
              <a:t>text structur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Questions to Prompt Thinking Levels -  Examples from Cinderella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ow many stepsisters did Cinderella have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ferential/Interpretiv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ow did the fairy godmother help Cinderella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tasks did Cinderella have to do at home?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ow is the main character like or unlike anyone you have known or read abou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Evaluative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do you think would have happened if the prince had broken the glass slipper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Comprehension Scaffolds for Guided Reading of Fiction and Nonfiction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isualiz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dict, Support, Confir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Connec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sk Ques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termine Importan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mmarize (using different text structure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aracter Analysi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ing Inferenc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isual Literacy (charts, maps, diagram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209960" y="6027840"/>
            <a:ext cx="7143840" cy="825480"/>
          </a:xfrm>
          <a:prstGeom prst="rect">
            <a:avLst/>
          </a:prstGeom>
          <a:solidFill>
            <a:srgbClr val="ffeb99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eck out the extra resources on the wiki!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Jan Richardson, Differentiating Strategy Instructio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401600" y="3200400"/>
            <a:ext cx="1584360" cy="1191240"/>
          </a:xfrm>
          <a:prstGeom prst="rect">
            <a:avLst/>
          </a:prstGeom>
          <a:solidFill>
            <a:srgbClr val="ffeb99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itera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erentia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valuativ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1" name="Right Brace 6"/>
          <p:cNvSpPr/>
          <p:nvPr/>
        </p:nvSpPr>
        <p:spPr>
          <a:xfrm>
            <a:off x="6781680" y="2133720"/>
            <a:ext cx="609840" cy="3733560"/>
          </a:xfrm>
          <a:custGeom>
            <a:avLst/>
            <a:gdLst>
              <a:gd name="textAreaLeft" fmla="*/ 0 w 609840"/>
              <a:gd name="textAreaRight" fmla="*/ 220320 w 609840"/>
              <a:gd name="textAreaTop" fmla="*/ 15840 h 3733560"/>
              <a:gd name="textAreaBottom" fmla="*/ 371772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"/>
                  <a:pt x="10800" y="294"/>
                </a:cubicBezTo>
                <a:lnTo>
                  <a:pt x="10800" y="10506"/>
                </a:lnTo>
                <a:cubicBezTo>
                  <a:pt x="10800" y="10653"/>
                  <a:pt x="16200" y="10800"/>
                  <a:pt x="21600" y="10800"/>
                </a:cubicBezTo>
                <a:cubicBezTo>
                  <a:pt x="16200" y="10800"/>
                  <a:pt x="10800" y="10947"/>
                  <a:pt x="10800" y="11094"/>
                </a:cubicBezTo>
                <a:lnTo>
                  <a:pt x="10800" y="21306"/>
                </a:lnTo>
                <a:cubicBezTo>
                  <a:pt x="10800" y="21453"/>
                  <a:pt x="5400" y="21600"/>
                  <a:pt x="0" y="21600"/>
                </a:cubicBezTo>
              </a:path>
            </a:pathLst>
          </a:cu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iteral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do barn owls eat? What do barn owls use to find their food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Inferential/Interpretive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y do barn owls hunt at night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are barn owls especially built for hunting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are barn owls different from a bird’s ears? (previous knowledge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Evaluative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ich would you rather have as a pet – a barn owl or a parakeet and why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raditional Tales: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an You Prove It’s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 Fairy Tale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nd Multicultural Literature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reflect differences in cultural beliefs and what’s important in life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Is this effective for teaching elements of a particular genre?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otential benefits…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f the Prove It activity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f reading multiple cultural version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enefits of connecting to writing fairy tales (like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Bearse article?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e Fairy Tale Connection 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(Bearse, 1992) – Purpose?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“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interven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” took place (over 4 weeks)?  Key element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word splas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read lots of different stories (exposed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compare/contrast in mini-less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wrote (process writing, key componen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was the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of the study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. connections to other fairy tales (intertextualit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. conscious?  unconscious? Connections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. languag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e Fairy Tale Connection 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(Bearse, 1992) – Key findings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s result of intervention, 61% (11/18 students) made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nscious connections in their writing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o stories they had read previously (naming characters, borrowed plot details; synthesized several fairy tales into their writing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ynthesis was often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unconsciou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, whether the connections were to fairy tales or certain fairy tale elements (e.g., the lead, magical element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ll children, to some extent,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ternalized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phisticated sentence structure, rhythms, and poetic language of fairy tale languag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did that happen?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Key Practices to Foster Reading/Writing Connec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stering reading/writing connec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mmerse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in genre stud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vide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plicit instruction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 language and structure of each genr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vide lots of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posur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to multiple texts and models before you expect students to write in that genr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: Why do you think that high-ability students tended to mak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onsciou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nections while low-ability students seemed to mak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unconsciou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nections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35" name="Picture 4" descr="Screen shot 2013-10-06 at 9.40.53 AM.png"/>
          <p:cNvPicPr/>
          <p:nvPr/>
        </p:nvPicPr>
        <p:blipFill>
          <a:blip r:embed="rId1"/>
          <a:stretch/>
        </p:blipFill>
        <p:spPr>
          <a:xfrm>
            <a:off x="228600" y="1636560"/>
            <a:ext cx="4343400" cy="5221440"/>
          </a:xfrm>
          <a:prstGeom prst="rect">
            <a:avLst/>
          </a:prstGeom>
          <a:ln w="19080">
            <a:solidFill>
              <a:srgbClr val="330000"/>
            </a:solidFill>
            <a:miter/>
          </a:ln>
        </p:spPr>
      </p:pic>
      <p:pic>
        <p:nvPicPr>
          <p:cNvPr id="136" name="Picture 5" descr="Screen shot 2013-10-06 at 9.41.49 AM.png"/>
          <p:cNvPicPr/>
          <p:nvPr/>
        </p:nvPicPr>
        <p:blipFill>
          <a:blip r:embed="rId2"/>
          <a:stretch/>
        </p:blipFill>
        <p:spPr>
          <a:xfrm>
            <a:off x="4648320" y="2666880"/>
            <a:ext cx="4221000" cy="2838600"/>
          </a:xfrm>
          <a:prstGeom prst="rect">
            <a:avLst/>
          </a:prstGeom>
          <a:ln w="28440">
            <a:solidFill>
              <a:srgbClr val="33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Review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arrative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genr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text structures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and comprehension supports for both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Examine several versions of Cinderella for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key elements of fairy tal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Reflect on the Prove It Process and connect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to key ideas in Bearse’s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The Fairy Tale</a:t>
            </a:r>
            <a:br>
              <a:rPr sz="2800"/>
            </a:b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    Conne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kinds of narrative texts should be in your classroom library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rainstorm as many “narrative genres” as you can in two minute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Genres of Narrative Text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raditional Stori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Folktales, Fairytales, Fables, Myths, Trickster Tales, Legends, Tall Tal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Fantasy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animal, toy, science fiction, time fantasy, horro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alistic Fic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ontemporary (sports, survival, school, family), historical, myster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oetry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ouplet, free verse, haiku, shape poems,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ulticultural/International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ntersecting, but representing specific cultur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859320" y="5875200"/>
            <a:ext cx="747756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F YOU HAVE ALL OF THESE,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HAT’S STILL MISSING IN YOUR CLASSROOM?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POSITORY TEXTS!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nfic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ormationa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iograph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utobiograph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pository (textbook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oys love them!    Fosters personal inquiry!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plicitly teach “reading to learn” rather than assume natural transition from learning to read to avoid “fourth grade slump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lements of Narrative Text Structur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realistic (specific or anytown USA), fictional, or fantas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revealed through words, actions, and descrip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lo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Beginning/Middle/End &gt; Conflict and Resolu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em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unifying truth, universal message (big idea statement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tylistic Element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structure, figurative language, mood, irony, humor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oint of view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who’s telling the story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000"/>
                </a:solidFill>
                <a:latin typeface="Arial"/>
              </a:rPr>
              <a:t>Comprehension &amp; Response Structures  </a:t>
            </a:r>
            <a:br>
              <a:rPr sz="4000"/>
            </a:b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(During &amp; After Reading Narrative Texts)</a:t>
            </a:r>
            <a:br>
              <a:rPr sz="2800"/>
            </a:br>
            <a:r>
              <a:rPr b="1" lang="en-US" sz="2800" spc="-1" strike="noStrike">
                <a:solidFill>
                  <a:srgbClr val="320000"/>
                </a:solidFill>
                <a:latin typeface="Arial"/>
              </a:rPr>
              <a:t>SUPPORTS FOR RETELLING… </a:t>
            </a:r>
            <a:endParaRPr b="0" lang="en-US" sz="28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04" name="Picture 3" descr="Screen shot 2011-10-19 at 9.54.19 PM.png"/>
          <p:cNvPicPr/>
          <p:nvPr/>
        </p:nvPicPr>
        <p:blipFill>
          <a:blip r:embed="rId1"/>
          <a:stretch/>
        </p:blipFill>
        <p:spPr>
          <a:xfrm>
            <a:off x="457200" y="2590920"/>
            <a:ext cx="3373560" cy="31240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3985920" y="2209680"/>
            <a:ext cx="46202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/M/E – 3 sentences/paragraph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510080" y="3276720"/>
            <a:ext cx="3771360" cy="459720"/>
          </a:xfrm>
          <a:prstGeom prst="rect">
            <a:avLst/>
          </a:prstGeom>
          <a:solidFill>
            <a:srgbClr val="ff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mebody/Wanted/But/S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516920" y="4191120"/>
            <a:ext cx="3675240" cy="459720"/>
          </a:xfrm>
          <a:prstGeom prst="rect">
            <a:avLst/>
          </a:prstGeom>
          <a:solidFill>
            <a:srgbClr val="ffd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quence Events&gt;Detail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798440" y="5037120"/>
            <a:ext cx="3227040" cy="825480"/>
          </a:xfrm>
          <a:prstGeom prst="rect">
            <a:avLst/>
          </a:prstGeom>
          <a:solidFill>
            <a:srgbClr val="00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blem/Feelings and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lution/Feeling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1209960" y="6027840"/>
            <a:ext cx="7143840" cy="825480"/>
          </a:xfrm>
          <a:prstGeom prst="rect">
            <a:avLst/>
          </a:prstGeom>
          <a:solidFill>
            <a:srgbClr val="ffeb99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eck out the extra resources on the wiki – p. 1-2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Jan Richardson, Differentiating Strategy Instructio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0" name="5-Point Star 9"/>
          <p:cNvSpPr/>
          <p:nvPr/>
        </p:nvSpPr>
        <p:spPr>
          <a:xfrm>
            <a:off x="4038480" y="3048120"/>
            <a:ext cx="685800" cy="68580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Screen shot 2013-10-08 at 5.26.08 AM.png"/>
          <p:cNvPicPr/>
          <p:nvPr/>
        </p:nvPicPr>
        <p:blipFill>
          <a:blip r:embed="rId1"/>
          <a:stretch/>
        </p:blipFill>
        <p:spPr>
          <a:xfrm>
            <a:off x="216000" y="279360"/>
            <a:ext cx="87120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l level comprehension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call information explicitly stated in the text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ferential/interpretive level comprehension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an inference or draw a conclusion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Evaluative level comprehension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judgments, form an opinion, or weigh evidence that supports or opposes a position (e.g., bring personal experience and evidence-based reasoning to proces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000"/>
                </a:solidFill>
                <a:latin typeface="Arial"/>
              </a:rPr>
              <a:t>Comprehension &amp; Response Structures  </a:t>
            </a:r>
            <a:br>
              <a:rPr sz="4000"/>
            </a:b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(During &amp; After Reading Narrative Texts)</a:t>
            </a:r>
            <a:br>
              <a:rPr sz="2800"/>
            </a:br>
            <a:r>
              <a:rPr b="1" lang="en-US" sz="2800" spc="-1" strike="noStrike">
                <a:solidFill>
                  <a:srgbClr val="320000"/>
                </a:solidFill>
                <a:latin typeface="Arial"/>
              </a:rPr>
              <a:t>SCAFFOLDING LEVELS OF THINKING</a:t>
            </a:r>
            <a:endParaRPr b="0" lang="en-US" sz="28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705680" y="5943600"/>
            <a:ext cx="5857560" cy="825480"/>
          </a:xfrm>
          <a:prstGeom prst="rect">
            <a:avLst/>
          </a:prstGeom>
          <a:solidFill>
            <a:srgbClr val="ffeb99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eck out the extra resources on the wiki!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evels of scaffolding for each strategy!!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1:44:57Z</dcterms:created>
  <dc:creator>Julie Coiro</dc:creator>
  <dc:description/>
  <dc:language>en-US</dc:language>
  <cp:lastModifiedBy>Julie Coiro</cp:lastModifiedBy>
  <cp:lastPrinted>2010-10-05T01:50:07Z</cp:lastPrinted>
  <dcterms:modified xsi:type="dcterms:W3CDTF">2013-10-10T00:18:30Z</dcterms:modified>
  <cp:revision>240</cp:revision>
  <dc:subject/>
  <dc:title>Metacognitive Strategy Instruction to Enhance Reading Comprehension</dc:title>
</cp:coreProperties>
</file>